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C0F0-87E5-482E-976C-18CAD0FA3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F38-E26A-4756-8154-F491A29E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BB6-5494-471E-AACB-124FEEA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B0F-BF6E-46BA-B8CD-4DE08865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220-C76D-491B-8C47-3B13A56E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F58-9FDF-4AAF-850D-73908956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949-408B-488B-98A2-DE7D3B16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C92-DFF4-4F33-B0B0-54B7E93E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AB4-1CAC-433E-9B54-07A30963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4AF-2BD8-43DF-B076-6E89C91C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B21-990E-43AD-B4F3-99E30BA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D9D-83DC-43AA-B3E3-9F47C36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694-9782-4911-B5CE-A4DC55C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lly Kirby &amp; Linda Mangia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29400" y="6172200"/>
            <a:ext cx="1828800" cy="523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hink back to the “ other perspective” breakout groups from last week.  What did you learn that you used/or could use in the last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ve Reflection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676520"/>
            <a:ext cx="701028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lect on the comments left on your lesson with your planning part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suggestions could be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thoughts in your reflection b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3:10Z</dcterms:created>
  <dc:creator>fcps</dc:creator>
  <dc:description/>
  <dc:language>en-US</dc:language>
  <cp:lastModifiedBy>FCPS</cp:lastModifiedBy>
  <dcterms:modified xsi:type="dcterms:W3CDTF">2009-02-27T21:07:43Z</dcterms:modified>
  <cp:revision>14</cp:revision>
  <dc:subject/>
  <dc:title>Making it Work for You and Your Students</dc:title>
</cp:coreProperties>
</file>